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1B5-96C5-49B3-8B4A-4AB093FF22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9210-910C-40A2-9218-DE84DC566E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611-E5A9-4F91-A58D-EB75E56AF3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665B-3978-4EC5-B785-AEB4996738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7B4-0243-498B-B0C3-F8F3E112BD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2DCF-7E34-400C-91C4-5BDE7D5DFD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75A-CBBA-492F-BBC9-435935ED3E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0FF-088A-4C0D-BC23-6B00722BD4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EA7-D52F-4FFC-873E-7E01BDCB72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07E1-8C14-4198-9C45-9CBFFF2269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374-8678-48ED-A8F5-2A18C38EAE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02D-3D6D-4485-B413-DB53678139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6889-8D99-4E09-8160-7C9803B326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052F-AFC9-41FC-BBD6-A02E708307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39C-44D1-4E41-B3F3-1DFCEE7709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FF9-40EF-498D-AB29-3A5FDC692A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hyperlink" Target="file:///..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839880" y="1754280"/>
            <a:ext cx="777060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The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Discovering a T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Stating a Th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20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2" name="AutoShape 23">
            <a:hlinkClick r:id="" action="ppaction://hlinkshowjump?jump=endshow"/>
          </p:cNvPr>
          <p:cNvSpPr/>
          <p:nvPr/>
        </p:nvSpPr>
        <p:spPr>
          <a:xfrm>
            <a:off x="6095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8" name="AutoShape 22"/>
          <p:cNvSpPr/>
          <p:nvPr/>
        </p:nvSpPr>
        <p:spPr>
          <a:xfrm>
            <a:off x="58672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3520" y="137016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mes are important to all forms of lit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24703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imilar themes can often be found in different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genr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in stories, novels, plays, poems, and even in nonf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3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4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25" descr=""/>
          <p:cNvPicPr/>
          <p:nvPr/>
        </p:nvPicPr>
        <p:blipFill>
          <a:blip r:embed="rId3"/>
          <a:stretch/>
        </p:blipFill>
        <p:spPr>
          <a:xfrm>
            <a:off x="8096400" y="21337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1370160"/>
            <a:ext cx="8076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o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t is a mistake to reduce a theme to a simple moral or a cliché, such as “Be true to yourself.” Themes are usually more complex and original revelations about lif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133880" y="3200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533520" y="35528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trying to discover a work’s theme, readers should ask themselves, “What does this work reveal?” rather than “What does this work teach?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13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4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let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theme must be a statement about the subject of the work rather a phr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4743360" y="2514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8477280" y="3200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514600" y="3780000"/>
            <a:ext cx="5791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story reveals that people often make unwise sacrifices to win the love of oth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14600" y="2895480"/>
            <a:ext cx="57913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aking sacrifices for l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33520" y="289548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Incorr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33520" y="378144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Corr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mes are stated as generalizations because they apply to more than one si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533520" y="28195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fact, many themes ar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universal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y apply to people everywhere because people all over the world have common desires, needs, and experien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tat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533520" y="1370160"/>
            <a:ext cx="41907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re is no single way to state a theme. Your statement of theme may be different from your classmates’ them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7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78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9" descr="c04ele009"/>
          <p:cNvPicPr/>
          <p:nvPr/>
        </p:nvPicPr>
        <p:blipFill>
          <a:blip r:embed="rId3"/>
          <a:stretch/>
        </p:blipFill>
        <p:spPr>
          <a:xfrm>
            <a:off x="5105520" y="2028960"/>
            <a:ext cx="348588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7016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work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central idea about human lif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392200"/>
            <a:ext cx="7772400" cy="4291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Many elements contribute to a work’s the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581280" y="3809880"/>
            <a:ext cx="1905120" cy="9648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2514600" y="365760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2514600" y="441972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32"/>
          <p:cNvSpPr/>
          <p:nvPr/>
        </p:nvSpPr>
        <p:spPr>
          <a:xfrm flipH="1">
            <a:off x="5638680" y="365760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33"/>
          <p:cNvSpPr/>
          <p:nvPr/>
        </p:nvSpPr>
        <p:spPr>
          <a:xfrm flipH="1" flipV="1">
            <a:off x="5638680" y="4419720"/>
            <a:ext cx="91440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5943600" y="4710240"/>
            <a:ext cx="2057400" cy="852480"/>
            <a:chOff x="5943600" y="4710240"/>
            <a:chExt cx="2057400" cy="852480"/>
          </a:xfrm>
        </p:grpSpPr>
        <p:sp>
          <p:nvSpPr>
            <p:cNvPr id="63" name="Oval 17"/>
            <p:cNvSpPr/>
            <p:nvPr/>
          </p:nvSpPr>
          <p:spPr>
            <a:xfrm>
              <a:off x="6095880" y="4710240"/>
              <a:ext cx="175284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5943600" y="49230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setting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" name="Group 27"/>
          <p:cNvGrpSpPr/>
          <p:nvPr/>
        </p:nvGrpSpPr>
        <p:grpSpPr>
          <a:xfrm>
            <a:off x="1066680" y="4710240"/>
            <a:ext cx="2057400" cy="852480"/>
            <a:chOff x="1066680" y="4710240"/>
            <a:chExt cx="2057400" cy="852480"/>
          </a:xfrm>
        </p:grpSpPr>
        <p:sp>
          <p:nvSpPr>
            <p:cNvPr id="66" name="Oval 21"/>
            <p:cNvSpPr/>
            <p:nvPr/>
          </p:nvSpPr>
          <p:spPr>
            <a:xfrm>
              <a:off x="1219320" y="4710240"/>
              <a:ext cx="175248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1066680" y="49230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conflict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62120" y="3048120"/>
            <a:ext cx="2057400" cy="852480"/>
            <a:chOff x="762120" y="3048120"/>
            <a:chExt cx="2057400" cy="852480"/>
          </a:xfrm>
        </p:grpSpPr>
        <p:sp>
          <p:nvSpPr>
            <p:cNvPr id="69" name="Oval 11"/>
            <p:cNvSpPr/>
            <p:nvPr/>
          </p:nvSpPr>
          <p:spPr>
            <a:xfrm>
              <a:off x="914760" y="3048120"/>
              <a:ext cx="175248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762120" y="3260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characters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" name="Group 28"/>
          <p:cNvGrpSpPr/>
          <p:nvPr/>
        </p:nvGrpSpPr>
        <p:grpSpPr>
          <a:xfrm>
            <a:off x="6248520" y="3124080"/>
            <a:ext cx="2057400" cy="852480"/>
            <a:chOff x="6248520" y="3124080"/>
            <a:chExt cx="2057400" cy="852480"/>
          </a:xfrm>
        </p:grpSpPr>
        <p:sp>
          <p:nvSpPr>
            <p:cNvPr id="72" name="Oval 19"/>
            <p:cNvSpPr/>
            <p:nvPr/>
          </p:nvSpPr>
          <p:spPr>
            <a:xfrm>
              <a:off x="6400800" y="3124080"/>
              <a:ext cx="1752840" cy="852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6248520" y="333684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plot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Text Box 34"/>
          <p:cNvSpPr/>
          <p:nvPr/>
        </p:nvSpPr>
        <p:spPr>
          <a:xfrm>
            <a:off x="533520" y="5653080"/>
            <a:ext cx="83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35" descr=""/>
          <p:cNvPicPr/>
          <p:nvPr/>
        </p:nvPicPr>
        <p:blipFill>
          <a:blip r:embed="rId2"/>
          <a:stretch/>
        </p:blipFill>
        <p:spPr>
          <a:xfrm>
            <a:off x="4819680" y="19684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"/>
          <p:cNvPicPr/>
          <p:nvPr/>
        </p:nvPicPr>
        <p:blipFill>
          <a:blip r:embed="rId3"/>
          <a:stretch/>
        </p:blipFill>
        <p:spPr>
          <a:xfrm>
            <a:off x="8477280" y="26668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th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001000" y="1600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6094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eals the writer’s personal attitude toward the world and the people i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3765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y give readers insight into life and human nature or help them realize the importance of what they already k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dentifying the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he theme will always be a statement of some kind, not a single wo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001000" y="1600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09480" y="243828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Example Th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times if you love someone, you have to let them go and give them their freedom. Love is not possessive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ove” and “Freedo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work’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m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ometimes confused with 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isn’t</a:t>
            </a: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33520" y="1919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ubje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hat the story is abo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1"/>
          <a:stretch/>
        </p:blipFill>
        <p:spPr>
          <a:xfrm>
            <a:off x="8172360" y="16002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533520" y="24573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lo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events of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533520" y="3006720"/>
            <a:ext cx="807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moral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rule of conduct that the story teach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6" descr=""/>
          <p:cNvPicPr/>
          <p:nvPr/>
        </p:nvPicPr>
        <p:blipFill>
          <a:blip r:embed="rId3"/>
          <a:stretch/>
        </p:blipFill>
        <p:spPr>
          <a:xfrm>
            <a:off x="6343560" y="21337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7" descr=""/>
          <p:cNvPicPr/>
          <p:nvPr/>
        </p:nvPicPr>
        <p:blipFill>
          <a:blip r:embed="rId4"/>
          <a:stretch/>
        </p:blipFill>
        <p:spPr>
          <a:xfrm>
            <a:off x="2514600" y="3581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0"/>
          <p:cNvSpPr/>
          <p:nvPr/>
        </p:nvSpPr>
        <p:spPr>
          <a:xfrm>
            <a:off x="52848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se parts of a story are important, but they are not its the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1" descr=""/>
          <p:cNvPicPr/>
          <p:nvPr/>
        </p:nvPicPr>
        <p:blipFill>
          <a:blip r:embed="rId5"/>
          <a:stretch/>
        </p:blipFill>
        <p:spPr>
          <a:xfrm>
            <a:off x="5734080" y="26668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99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80160" y="40384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6324480" y="1447920"/>
            <a:ext cx="22860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item as one of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33520" y="1828800"/>
            <a:ext cx="518148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ee siblings go swimming in a creek even though their grandfather warns them not to. One sibling is almost swept away by the curr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533520" y="396252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tory of a dangerous sw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33520" y="4572000"/>
            <a:ext cx="51814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oung people’s overconfidence can put them in danger; young people often learn a lesson the hard w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533520" y="1089000"/>
            <a:ext cx="2286000" cy="587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28480" y="111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33520" y="335268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isten to your e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8"/>
          <p:cNvSpPr/>
          <p:nvPr/>
        </p:nvSpPr>
        <p:spPr>
          <a:xfrm>
            <a:off x="533520" y="1828800"/>
            <a:ext cx="518148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ee siblings go swimming in a creek even though their grandfather warns them not to. One sibling is almost swept away by the curr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Them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5"/>
          <p:cNvSpPr/>
          <p:nvPr/>
        </p:nvSpPr>
        <p:spPr>
          <a:xfrm>
            <a:off x="533520" y="1089000"/>
            <a:ext cx="2286000" cy="5875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6"/>
          <p:cNvSpPr/>
          <p:nvPr/>
        </p:nvSpPr>
        <p:spPr>
          <a:xfrm>
            <a:off x="528480" y="111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324480" y="1447920"/>
            <a:ext cx="228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item as one of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4"/>
          <p:cNvSpPr/>
          <p:nvPr/>
        </p:nvSpPr>
        <p:spPr>
          <a:xfrm>
            <a:off x="533520" y="396252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tory of a dangerous sw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5"/>
          <p:cNvSpPr/>
          <p:nvPr/>
        </p:nvSpPr>
        <p:spPr>
          <a:xfrm>
            <a:off x="533520" y="4572000"/>
            <a:ext cx="51814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oung people’s overconfidence can put them in danger; young people often learn a lesson the hard w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6"/>
          <p:cNvSpPr/>
          <p:nvPr/>
        </p:nvSpPr>
        <p:spPr>
          <a:xfrm>
            <a:off x="533520" y="3352680"/>
            <a:ext cx="51814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isten to your el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Oval 16"/>
          <p:cNvSpPr/>
          <p:nvPr/>
        </p:nvSpPr>
        <p:spPr>
          <a:xfrm>
            <a:off x="4572000" y="3200400"/>
            <a:ext cx="1447920" cy="5335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4876920" y="2590920"/>
            <a:ext cx="1444680" cy="530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4648320" y="3886200"/>
            <a:ext cx="1447560" cy="5335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4651200" y="5251320"/>
            <a:ext cx="1443240" cy="540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5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scovering a Them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ually, the author does not say what the theme is directly. You must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INFE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hat the them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305920" y="21337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45720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the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0948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ay attention to story’s conflict and how i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4708440" y="3689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57200" y="28954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6560" indent="-35208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hat the protagonist lear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If the protagonist realizes something important about life at the end of the story, that is probably the theme of the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3"/>
          <a:stretch/>
        </p:blipFill>
        <p:spPr>
          <a:xfrm>
            <a:off x="7620120" y="42670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pply your knowledge to a story you kn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34" name="Picture 5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622160" cy="33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3520" y="2514600"/>
          <a:ext cx="8076960" cy="22860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he Contents of the Dead Man’s Pocke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 does the title mea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How does the main character chang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How is the conflict resolv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, in general, does the story reveals about lif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What is the story’s them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3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</dc:creator>
  <dc:description/>
  <dc:language>en-US</dc:language>
  <cp:lastModifiedBy>Dan Olsen</cp:lastModifiedBy>
  <cp:lastPrinted>2004-11-19T20:17:12Z</cp:lastPrinted>
  <dcterms:modified xsi:type="dcterms:W3CDTF">2011-11-08T20:03:28Z</dcterms:modified>
  <cp:revision>142</cp:revision>
  <dc:subject/>
  <dc:title>Elements of Literature: Character</dc:title>
</cp:coreProperties>
</file>